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A44-CAE7-4258-9291-34002C1C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7576-4B44-4723-B41E-58899C12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9B6-5DA1-433A-857A-1A61538C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98F-3B9B-4530-8D2A-86CCA310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8AF-4EBF-4969-9B21-699892ED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569-E672-44D1-A078-CC20F6CF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22F-B493-4ED6-BC82-8B058EBF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801-220E-4759-B7EE-EB2DC1F1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1DD-1D00-4AE2-8493-BE8F29F8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CF6-EBE0-4FCB-B5B4-1D91161F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D2D9-93E2-4633-A4FC-EE94AA27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60B-323D-451E-AD98-BFA0E68A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FBAF-597B-4A3A-B246-F529E3938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457200"/>
            <a:ext cx="4686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Arial Black"/>
              </a:rPr>
              <a:t>el verbo 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133720"/>
            <a:ext cx="2057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20574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743200" y="19047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1120" y="137160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EDMO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CAPUL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4038480"/>
            <a:ext cx="19814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PLA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COLE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CIN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DISCOT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CASA DE MI AMI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4952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743200" y="3429000"/>
            <a:ext cx="3581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2209680"/>
            <a:ext cx="22096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CAFE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U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PARTIDO DE FUT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RESTAUR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TIENDA DE RO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19920" y="609480"/>
            <a:ext cx="238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donde vas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95280" y="609480"/>
          <a:ext cx="6629400" cy="5432400"/>
        </p:xfrm>
        <a:graphic>
          <a:graphicData uri="http://schemas.openxmlformats.org/drawingml/2006/table">
            <a:tbl>
              <a:tblPr/>
              <a:tblGrid>
                <a:gridCol w="32004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-B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OS D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MO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S TAR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AFTER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S NO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EVE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EL LU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YOU 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M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YOU TOMOR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609480"/>
          <a:ext cx="6629400" cy="5432400"/>
        </p:xfrm>
        <a:graphic>
          <a:graphicData uri="http://schemas.openxmlformats.org/drawingml/2006/table">
            <a:tbl>
              <a:tblPr/>
              <a:tblGrid>
                <a:gridCol w="3200400"/>
                <a:gridCol w="342900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O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COUR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O QUE SI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S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FICO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FI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PENDO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NDERFU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TASTICO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TAST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 VEZ, POR FAVOR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MORE TIME , PL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C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K 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95280" y="609480"/>
          <a:ext cx="6629400" cy="5843880"/>
        </p:xfrm>
        <a:graphic>
          <a:graphicData uri="http://schemas.openxmlformats.org/drawingml/2006/table">
            <a:tbl>
              <a:tblPr/>
              <a:tblGrid>
                <a:gridCol w="3200400"/>
                <a:gridCol w="3429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IECEN, POR FAVO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, PL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O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MBA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N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O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MOS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’S GO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CION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 ATT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STEN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95280" y="380880"/>
          <a:ext cx="6629400" cy="6096240"/>
        </p:xfrm>
        <a:graphic>
          <a:graphicData uri="http://schemas.openxmlformats.org/drawingml/2006/table">
            <a:tbl>
              <a:tblPr/>
              <a:tblGrid>
                <a:gridCol w="3886200"/>
                <a:gridCol w="2743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ITA, POR FAV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, PLE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ERRE EL LIB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 THE B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A EL LIB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THE BO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E’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K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TENGO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Y H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 EN VOZ 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AL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GO UN PREGUN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HAVE A QUES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609480"/>
          <a:ext cx="6629400" cy="5432400"/>
        </p:xfrm>
        <a:graphic>
          <a:graphicData uri="http://schemas.openxmlformats.org/drawingml/2006/table">
            <a:tbl>
              <a:tblPr/>
              <a:tblGrid>
                <a:gridCol w="32004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-B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OS D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MO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S TAR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AFTER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S NO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EVE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EL LU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YOU 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M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YOU TOMOR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4920" y="304920"/>
            <a:ext cx="8610480" cy="6324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95280" y="609480"/>
          <a:ext cx="6629400" cy="5432400"/>
        </p:xfrm>
        <a:graphic>
          <a:graphicData uri="http://schemas.openxmlformats.org/drawingml/2006/table">
            <a:tbl>
              <a:tblPr/>
              <a:tblGrid>
                <a:gridCol w="32004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-B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OS D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MO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S TAR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AFTER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S NO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 EVE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EL LU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YOU MON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MAN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 YOU TOMOR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 rot="20792400">
            <a:off x="902880" y="4638240"/>
            <a:ext cx="5443560" cy="1374840"/>
          </a:xfrm>
          <a:prstGeom prst="ellipse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457200"/>
            <a:ext cx="4686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Arial Black"/>
              </a:rPr>
              <a:t>EL VERBO GUST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133720"/>
            <a:ext cx="2286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G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G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 GU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20574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743200" y="19047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371600"/>
            <a:ext cx="1981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ESCU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LIB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HIS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ATEMA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4038480"/>
            <a:ext cx="23623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FRES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BICICLE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COMPUTADO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PLATA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362320" y="5257800"/>
            <a:ext cx="1981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57200" y="3352680"/>
            <a:ext cx="5867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2209680"/>
            <a:ext cx="22096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 EN T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RM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UCHAR MU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LAR ESP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019920" y="609480"/>
            <a:ext cx="238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E TE GUSTA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457200"/>
            <a:ext cx="4686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Arial Black"/>
              </a:rPr>
              <a:t>EL VERBO S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2057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43200" y="20574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43200" y="19047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91120" y="1371600"/>
            <a:ext cx="1981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ESTUDI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CH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H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MUJ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4038480"/>
            <a:ext cx="22100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ROFE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CAMA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DOC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MOD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I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B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952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2209680"/>
            <a:ext cx="22096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I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A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19920" y="609480"/>
            <a:ext cx="238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IEN ERES TU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21337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86200" y="3809880"/>
            <a:ext cx="2057400" cy="24386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457200"/>
            <a:ext cx="4686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Arial Black"/>
              </a:rPr>
              <a:t>EL VERBO EST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STAY-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2133720"/>
            <a:ext cx="2057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20574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19047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1371600"/>
            <a:ext cx="1981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DMO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TORO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LA CLASE DE ESP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67080" y="4038480"/>
            <a:ext cx="1981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SI’, ASI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4952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3429000"/>
            <a:ext cx="3581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2209680"/>
            <a:ext cx="2209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BRE LA M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LA CO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DERE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 IZQUIE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I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19920" y="609480"/>
            <a:ext cx="238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NDE ESTAS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324480" y="5715000"/>
            <a:ext cx="2381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O ESTAS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562360" y="563832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457200"/>
            <a:ext cx="4686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Arial Black"/>
              </a:rPr>
              <a:t>EL VERBO SER DE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133720"/>
            <a:ext cx="2057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0574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743200" y="19047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1371600"/>
            <a:ext cx="198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DMO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AD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STE COLEG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4952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743200" y="3429000"/>
            <a:ext cx="3581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2209680"/>
            <a:ext cx="22096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 CA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FR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19920" y="609480"/>
            <a:ext cx="238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 DONDE ERES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886200"/>
            <a:ext cx="2438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ADI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A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09480"/>
            <a:ext cx="32767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Arial Black"/>
              </a:rPr>
              <a:t>LAS FECH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25146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ERC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E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R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I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20574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1371600"/>
            <a:ext cx="266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PRI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SEGUND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RES DE 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50532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B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00800" y="1295280"/>
            <a:ext cx="22096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DIA ES MANA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DIA FUE AY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DIA ES PASADO MANAN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533520"/>
            <a:ext cx="36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E DIA ES HOY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971800" y="2895480"/>
            <a:ext cx="3219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UAL ES LA FECHA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733920"/>
            <a:ext cx="2305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E MES ES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505320"/>
            <a:ext cx="17528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I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U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I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CI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14479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46483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Y ES MIERCOLES,EL CUATRO DE FEBR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457200"/>
            <a:ext cx="4686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Arial Black"/>
              </a:rPr>
              <a:t>EL CUMPLEAN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BE BO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895480"/>
            <a:ext cx="2057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I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I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IO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20574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743200" y="190476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1371600"/>
            <a:ext cx="1981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DIECI DE AGO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VEINTE DE JU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4419720"/>
            <a:ext cx="198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M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DICIE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E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4952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743200" y="3429000"/>
            <a:ext cx="3581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32767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liz cumplean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19920" y="609480"/>
            <a:ext cx="2381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UANDO NACISTE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86200" y="5867280"/>
            <a:ext cx="3828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UANDO ES TU CUMPLEANOS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57200" y="2133720"/>
            <a:ext cx="160020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397800">
            <a:off x="685440" y="456840"/>
            <a:ext cx="4686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Arial Black"/>
              </a:rPr>
              <a:t>LOS COLO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L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600200"/>
            <a:ext cx="3733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R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M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LAN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G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SS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MARRON /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MARILLO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CAFÉ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VER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Z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NARAN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1828800"/>
            <a:ext cx="198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AMARI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BLAN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3352680"/>
            <a:ext cx="19810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LIBRO ES 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VENTANA ES BLAN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 COLOR FAVORITO ES EL AZ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5562720"/>
            <a:ext cx="4038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UAL ES TU COLOR FAVORITO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867280" y="762120"/>
            <a:ext cx="2686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E' COLOR ES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 rot="397800">
            <a:off x="685440" y="456840"/>
            <a:ext cx="46864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2700000" blurRad="0" rotWithShape="0">
                    <a:srgbClr val="ffff00">
                      <a:alpha val="50000"/>
                    </a:srgbClr>
                  </a:outerShdw>
                </a:effectLst>
                <a:latin typeface="Baskerville Old Face"/>
              </a:rPr>
              <a:t>significa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2700000" blurRad="0" rotWithShape="0">
                  <a:srgbClr val="ffff00">
                    <a:alpha val="5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3808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34120" y="1523880"/>
            <a:ext cx="3352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que significa....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160020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520" y="1600200"/>
            <a:ext cx="2685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mo se escribe...?</a:t>
            </a:r>
            <a:endParaRPr b="0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514600"/>
            <a:ext cx="4114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SE ESCRIBE PABL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 ESCRIBE C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-A-B-L-E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O SE ESCRIBE SIL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 ESCRIBE C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-I-LL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2514600"/>
            <a:ext cx="3886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IGNIFICA SIL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IF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CHAI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IGNIFICA ME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IGNIF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“TABL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6T19:34:05Z</dcterms:created>
  <dc:creator>VALERIA PALLADINO</dc:creator>
  <dc:description/>
  <dc:language>en-US</dc:language>
  <cp:lastModifiedBy>VALERIA PALLADINO</cp:lastModifiedBy>
  <dcterms:modified xsi:type="dcterms:W3CDTF">2002-02-05T22:21:30Z</dcterms:modified>
  <cp:revision>21</cp:revision>
  <dc:subject/>
  <dc:title>Slide 1</dc:title>
</cp:coreProperties>
</file>